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A41-4DF4-4E8D-8F51-F4D5980E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B9F-571E-40BD-B9E0-138CEC9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3F8-C4A8-4FC6-85F7-60CD5193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677-A23D-4B03-B23B-3FF9AA6F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99E-1E0B-4BAF-9429-CD45477A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5329-9D06-4FF5-901C-231DFC7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25DD-127C-46C1-83FB-4ED43591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C4F-9344-4C8F-9E5F-CB5CD58B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0B57-9C58-4EA3-89BD-425EFB5D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B29-F1E1-4452-82F2-1500E4B3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ED4-F80C-48C1-ACC0-64DCD4E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F07-E6EF-4CA1-BA25-5E9AE51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9801-07BA-4B39-A768-7C50CDA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DA7E-1F24-4356-8BB4-A769850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0E88-F30D-4753-A5D9-CBAE1822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B41D-B6C3-4DEE-A671-B129AEF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5C0C-3322-40EE-8208-C64B22ED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BE2-8065-4AAA-B842-6311610A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E71-F18F-401A-92F7-438B2B3F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578-AF05-4079-9903-FF1A0E9C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7AA-06E9-4F2F-A1DC-E9A6FD59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1A1-3F79-4927-8638-537FAE3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95E-43F1-4257-A95E-B68D70B4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60D-CECE-49FA-9603-F6D6902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6C0-5B24-49BC-AFBC-F925B959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AD95-015E-4F84-9524-91F5605DC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evii clasei a IV- a prezint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FRUMUSETI CREATE DE NATUR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CHEILE TURZ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Membrii echipe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ad Elena Ana-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iu T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a 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ala Mihai Vod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 Ch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onator: inv. Natalia Z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chipa noastra va prezenta   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Cheile Turzii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343400" y="22860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om prezenta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Descrie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Monotype Corsiva"/>
              </a:rPr>
              <a:t>Flora si fa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Pester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Excursiile noastre in Cheile Turzii- fotograf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Monotype Corsiva"/>
              </a:rPr>
              <a:t>Impresiile noastre- compun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33:40Z</dcterms:created>
  <dc:creator>ws15</dc:creator>
  <dc:description/>
  <dc:language>en-US</dc:language>
  <cp:lastModifiedBy>ws15</cp:lastModifiedBy>
  <dcterms:modified xsi:type="dcterms:W3CDTF">2009-12-10T14:08:59Z</dcterms:modified>
  <cp:revision>3</cp:revision>
  <dc:subject/>
  <dc:title>Elevii clasei a IV- a prezinta</dc:title>
</cp:coreProperties>
</file>